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F9C-148F-4B89-A940-81439F32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D1B-5D6C-463E-ABA0-6C87DA69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D3B-1073-480E-BA61-7EC12ABB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C4B-90AD-4391-B29D-79026F78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292-8E8C-4EA1-B0F6-2D7B6196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BC87-D077-4BE7-AEB8-4E50778C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714-3971-4D13-97A3-AF4AE460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A0E-262D-46C4-B903-6277C2C8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F6D-7D52-4FEF-9512-1A031D36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0CA2-A7F5-4E1A-A3FC-F1565486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9B1-5B98-495F-8D8C-8A0DB6B3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25E-3EF8-496F-AC38-64E2875F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A335-5DB3-4B3E-A64B-7CBED9403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4114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29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1. С нас остани! Денят замира веч;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ред нощни сенки падат отдалеч;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блуждаем ний в тъма отчаяни,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безпомощни, сами -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с нас оста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17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9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757080" y="115200"/>
            <a:ext cx="99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2. Засеня мрак и нашия живот;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изчезват слава, радости, имот;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ищо не щадят променливи дни;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Ти Си неизменим - с нас оста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6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1656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3. Не ни зарадвай с поглед сал един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о в нас живей, о, Боже, Ти самин!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Христе, с ръка Си крепка ни хвани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и вечно ни води - с нас оста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7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73080" y="4137840"/>
            <a:ext cx="954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4. Нуждаем се от Теб ний всеки час-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за изкушения сила няма в нас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Спасителю, от зло ни Ти брани!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рез мрак, през видело - с нас остани!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11:55:51Z</dcterms:created>
  <dc:creator>TrifonTrifonow</dc:creator>
  <dc:description/>
  <dc:language>en-US</dc:language>
  <cp:lastModifiedBy>TrifonTrifonow</cp:lastModifiedBy>
  <dcterms:modified xsi:type="dcterms:W3CDTF">2005-11-22T21:04:21Z</dcterms:modified>
  <cp:revision>9</cp:revision>
  <dc:subject/>
  <dc:title>Slide 1</dc:title>
</cp:coreProperties>
</file>